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B4A-5F98-496B-9FC4-01D0C869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DCD-9CC3-48D6-AE44-A6B0F4C1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D66-BF10-45CD-A8AC-1AD9368C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E18-BFB3-4107-83C1-BE657E1E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CBDE-B5A4-4D00-BB38-A76B99E2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9AA7-C3A6-4C6E-9C62-2F7ED833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F19D-93FC-4A36-9034-02DD8FB2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178D-2AA6-4D66-A58E-3E88A6F5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EC66-EA57-47F3-A67A-E56EA20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791C-E4DA-4FB3-AF6F-2D959FEE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3F78-0BD2-48D3-B291-63898DD5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40C6-B85B-4C1F-9009-F83AD556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F811-A55D-4BF5-AB1A-C9EC545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89AF-B878-44B3-B6EA-20E362A1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5D4C-0885-48C8-8533-E2F47E70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CF31-7B31-4EFF-82E7-214A0120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7A7D-0945-4285-A0C8-7C6FA62E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A24-5104-4A28-913E-BEFE9B49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436-38BE-4875-8C60-B8EBA3D5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6FC-AD0F-4D65-9964-85FAD5D8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88A-8FF1-485F-BB80-420E05E1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30A-30B1-450C-80BE-F172E8B9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573-6A04-410B-9CC0-1CE2110C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278-B842-4466-9CB0-3E476F53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D670-E8D7-4D1C-843A-9583BFF6B439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A283-2439-441C-9C4E-DD3890BB3BF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ill There Was No Remedy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(Divided Kingdom – Part 1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64-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ings 8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hazi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year rule of 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called Azariah &amp; Jehoah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ehoram’s 12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of the stories of Elisha happened during his 1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isha Meets with Hazael -2 Kgs.8: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zael murders Ben-hadad to take the Syrian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7913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th Ahaziah &amp; Jehoram Fight For Ramath-Gilead – 2 Kgs.8:28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1320" y="2819520"/>
            <a:ext cx="1676160" cy="60948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0492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rael &amp; Judah’s Kings Join Forces To Fight The Syrians over Ramoth-Gi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haz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relative of Ah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ympathizer and supporter of Jeho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killed by Je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horam’s 1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unded in b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hu anointed to be king – 2 Kgs.9: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lls Jeho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ills Ahaziah (Juda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zebel thrown to her death; eaten by 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roys the sons of Ah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igns 28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7:13:58Z</dcterms:created>
  <dc:creator>Terry W. Benton</dc:creator>
  <dc:description/>
  <dc:language>en-US</dc:language>
  <cp:lastModifiedBy>Frank D Vines</cp:lastModifiedBy>
  <dcterms:modified xsi:type="dcterms:W3CDTF">2005-08-24T20:57:18Z</dcterms:modified>
  <cp:revision>4</cp:revision>
  <dc:subject/>
  <dc:title>Till There Was No Remedy (Divided Kingdom – Part 1)</dc:title>
</cp:coreProperties>
</file>